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F6C4-A946-460D-848B-EC7F25A4E1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A376-6AEA-4246-A884-8A1245A6019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968F-CA5E-430B-95FB-ADD7E283B94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9FC-16CD-4125-A1EE-59F22CCE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572-F6AF-4CD3-BF4D-652496CD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76F-A5BC-43A6-9F08-A32364B2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7A1-B018-42FB-A932-DF80D7A7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5BBC-8BF0-4A3E-92B6-249D5BCD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B1D6-44FD-473B-ABF9-2022FBDA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5A23-9690-49F9-8BCB-2072A630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655B-45B7-4D0C-8968-F99E55EF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4608-842D-4D8F-9653-434DDDFC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D361-D077-4F18-997A-20EDA78C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D7AB-D6D3-4590-9130-38CF92E2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DCB-6AB4-49C3-A341-6EB4DC2B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A1D6-8C14-4AA1-AF1F-D574830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9763-F642-430E-97BE-4A38092F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55F2-A226-4099-A55A-8C7CF6A2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B04C-C284-43C7-97A6-A22A69BD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B60A-7711-47EA-9B82-09177BBD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1B33-9C55-4CAC-A833-7BEE8C99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D764D-5F13-49BA-B7E8-21E16B93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6281-E625-457A-A7FA-F11A244B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9689A-4306-44B5-BB77-A7462843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EBC4-A8E6-4613-A379-80864967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FA0-3384-4F94-9CEE-076ADC7E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CFE2-8FCA-4FE1-869F-2F286D6E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CA1A-C917-4CC4-934A-87D5964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C3A8-5F24-4A46-8F1E-DB8653BA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B103B-4E7C-46C3-ACCE-42317CD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AD5C-5F6B-4982-A113-8FF88EAF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D7BC-1627-4178-B345-8D70C7B4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F7B6-F590-4D1D-875F-1E8A7929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0BD8-E54C-4FC4-92EB-AE6D5A5E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FBA0-4778-4C52-A0E1-9B2D5296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50C6E-439B-4719-AFFA-88E85A5B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384-86A9-4FE5-9BDF-A0AED288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5955-D4A2-41CA-9F03-6DA65880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7625D-1F92-4A74-A5D1-95E89131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5E0B6-DB90-4215-A265-3E298E46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546D-FCFB-453A-B572-9F3C3917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9A54-2B28-4E49-965B-D446AAB0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453E-FD76-4D21-BBDD-CD395698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3B3CB-F33D-4C5C-9FE6-9941ECCD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7FA51-F4D4-4211-A531-F1185EDA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F478C-5D9B-4C4A-A4B0-296EC016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388A-E0D9-4CC0-A1ED-A6F93D45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13E-0C1E-4162-B2DB-75671945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B3C5-4773-4BD6-880E-040C5646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A6F9-838C-4CAB-89FE-5EE8A481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97C44-A486-4F60-AFF1-75401344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AF92-EA08-47B7-886D-C81875CA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3CE7F-5E6E-43BB-895C-66C04ECC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39DD3-912A-49AD-9D47-47184CCF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8860A-0815-4298-A6AE-1C490F03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0AE5E-CA58-4670-AA99-4D51C6B2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06119-AF6C-4070-B178-7134AFC1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513CE-B4E7-4A51-918C-F6374DD2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04F-268D-4803-B4CA-0466FC0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49C0A-7262-4646-B289-18BBE868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72FB4-CF43-478F-B57E-570BF3E1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8080B-6E28-4627-80B4-16B4084D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66ED4-3982-4219-BAC3-D4766C0F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888BA-CF65-4143-BF94-375C9B88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319F0-1D61-4FDE-9DE9-406D50B0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BCA53-D97E-4F64-A0FF-64706CBD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28948-8D8C-462F-8111-19968381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0AF0D-009C-4F55-90FE-1E0C36C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87CD5-AB3F-4A5D-B4EB-9CE410A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2A4-B281-43E7-9391-7AE2FBE3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08767-0046-4198-90CD-3B5BA292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BD397-A9C0-4B5E-A0EF-F95DBC0B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0712E-6E8A-488E-BE76-A2534133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070-0CD8-4E23-B1C4-03E958A0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83B-A966-47E7-94B2-BB358A85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783-A523-4140-B915-001ED55F81C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D28B-BC77-49E3-BD32-DE183E451FB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9AF0-DDF0-4E2B-AC12-20FE2902FA8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30B7-92B1-427B-B76F-5DE06A246C59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EE49-4E76-4ECD-9618-6E0A354E8AF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755E-6817-45A7-8336-0469DC0DFF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5280-69E0-46EB-89D2-4BD4F3FCA14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C0B6-D3A4-4D7B-8C1C-40045FBF134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C6A4-3472-4555-9FEA-6E87F70173B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0E90-7299-4AF1-AF69-4DA9B071480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53B2-460D-4F5B-913A-31D86A90520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199A-515A-444F-9ED1-33D5924987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Agost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set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53880" y="1413000"/>
            <a:ext cx="1078236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Agost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79440" y="1484280"/>
            <a:ext cx="107568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82680" y="1450800"/>
            <a:ext cx="1075356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de Agost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1055520" y="1700280"/>
            <a:ext cx="10080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1055520" y="1527120"/>
            <a:ext cx="10080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de Agost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1055520" y="1557360"/>
            <a:ext cx="10080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Agost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1055520" y="1700280"/>
            <a:ext cx="10080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gost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055520" y="1484280"/>
            <a:ext cx="10080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9-21T20:41:11Z</dcterms:modified>
  <cp:revision>433</cp:revision>
  <dc:subject/>
  <dc:title>Demografia</dc:title>
</cp:coreProperties>
</file>